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23E4-6054-4970-94E0-116266F07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sty web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4AE-B4CC-4BF4-A744-E62FAA432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rch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AF2-21DA-4B23-9803-3781F95E3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 of website to help people get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7C5E-BB30-4DFF-8ADC-C59F201D3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B284-BED1-4317-A25F-EE38AA988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can get their information on this p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EC4-2EE7-48F9-9E51-897E7072E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they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D13-5822-412F-ADE6-3DDBB859A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ne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678D-C11B-4B90-8738-AD38D86FB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w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EE1F-F89E-43A9-B493-C9042BE17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1C9-C084-4E02-9809-1BCBE30B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A43-E68E-47F4-AE00-6E835C22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93C-015D-4897-BEB1-E80DA3EC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752-F0E5-468E-9C55-B751C138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52E-6F88-4D1D-A3F4-00B74FF7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10F-2F82-4CE4-9620-3D89BDD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55F-F084-4349-91C4-A3815848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099-2E77-483A-8813-99A4F95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CBC-047A-46B2-A99B-B40C618A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753-6DEC-46B2-9AA8-6222D5D7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AE19-2C9E-41E2-A4C0-61BBA0F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5EF-1761-4638-A829-29E363CA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A031-19BB-4AC2-80D7-6C795895F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8:00:53Z</dcterms:created>
  <dc:creator>ccstudent</dc:creator>
  <dc:description/>
  <dc:language>en-US</dc:language>
  <cp:lastModifiedBy>ccstudent</cp:lastModifiedBy>
  <dcterms:modified xsi:type="dcterms:W3CDTF">2011-02-06T20:03:30Z</dcterms:modified>
  <cp:revision>11</cp:revision>
  <dc:subject/>
  <dc:title>Slide 1</dc:title>
</cp:coreProperties>
</file>